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2B7-8C8E-4464-A78A-2CAC1B62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find a real life example of cross road inters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C195-C05A-4B6A-8FEC-9657F83D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give the formula. You can find the formula on the taks formula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532-1964-40EF-80D1-937069ED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not understand th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1B0-D811-4A5A-9408-D0A67F6C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this exampl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D90-61B0-4942-9248-C7B734CB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450-FE7A-440C-9A69-207D80C6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848-5FFF-4D8A-8D19-53E5EE07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05B-14A1-4750-89E6-86053894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FBF-6F75-4682-8851-A3F5EA0C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4A7D-0955-413E-8FD9-28B2E67F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651B-FD09-48A6-9A9C-02DFE4A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7FA-2741-4848-B7FC-A8767DF9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1DBF-77CC-4CAE-9CD7-186DF8E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372-C343-431D-AE39-04EBFDE3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F48-BC49-469C-B3F1-3F671DCA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B7B8-DE9A-4592-BF1E-D0BEC8C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CF5-E823-4E4D-81E3-E2F5507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9ED2-74A9-4812-896B-AE0D538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8BE7-721F-48FF-B961-F1169B4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1689-2B06-47D1-9823-FB9AA90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796-C182-4920-8799-F35DAF31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D3EA-8935-43C8-8CD0-996382AD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018-066D-442E-90E5-F8852A0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B9A-9685-4EB4-932B-3193333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8A6-AA0B-4153-925E-58A91D89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B4B-0BC6-44DB-9528-64809EBB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43E-321E-41A6-82DD-14E588B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753-8D87-4802-BEDA-D8C72F0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151-5729-44CF-9982-1F71F55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945-127A-4603-ACE2-268FD0B68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184-C381-42B8-8B51-83C2BE139F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Vocabula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re two lines cross and meet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ntersection"/>
          <p:cNvPicPr/>
          <p:nvPr/>
        </p:nvPicPr>
        <p:blipFill>
          <a:blip r:embed="rId1"/>
          <a:stretch/>
        </p:blipFill>
        <p:spPr>
          <a:xfrm>
            <a:off x="5562720" y="167652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4191120" y="4952880"/>
            <a:ext cx="44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wrong with this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theorem that the sum of the squares of the lengths of the sides of a right triangle is equal to the square of th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2408623800_850bb22fdf_t.jpg"/>
          <p:cNvPicPr/>
          <p:nvPr/>
        </p:nvPicPr>
        <p:blipFill>
          <a:blip r:embed="rId1"/>
          <a:stretch/>
        </p:blipFill>
        <p:spPr>
          <a:xfrm>
            <a:off x="5943600" y="3276720"/>
            <a:ext cx="207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ines that do not touch across from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parallel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191120" y="4952880"/>
            <a:ext cx="44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wrong with this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 flat surface has length and width that can be extended, but has no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57530629_52fc1cb0fa_t.jpg"/>
          <p:cNvPicPr/>
          <p:nvPr/>
        </p:nvPicPr>
        <p:blipFill>
          <a:blip r:embed="rId1"/>
          <a:stretch/>
        </p:blipFill>
        <p:spPr>
          <a:xfrm>
            <a:off x="3936960" y="3003480"/>
            <a:ext cx="41608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llection of points, part of        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line, no length, has one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n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02557834_0b06419b37_t.jpg"/>
          <p:cNvPicPr/>
          <p:nvPr/>
        </p:nvPicPr>
        <p:blipFill>
          <a:blip r:embed="rId1"/>
          <a:stretch/>
        </p:blipFill>
        <p:spPr>
          <a:xfrm>
            <a:off x="533520" y="1828800"/>
            <a:ext cx="2387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planar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oints on the sam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 the dots on the man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7" descr="2360203739_499e66d051_t.jpg"/>
          <p:cNvPicPr/>
          <p:nvPr/>
        </p:nvPicPr>
        <p:blipFill>
          <a:blip r:embed="rId1"/>
          <a:stretch/>
        </p:blipFill>
        <p:spPr>
          <a:xfrm>
            <a:off x="4800600" y="2666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lection of points, no length, no endpoints, can be named using smal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 is the line of marching ban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9" descr="3476003863_21564768be_t.jpg"/>
          <p:cNvPicPr/>
          <p:nvPr/>
        </p:nvPicPr>
        <p:blipFill>
          <a:blip r:embed="rId1"/>
          <a:stretch/>
        </p:blipFill>
        <p:spPr>
          <a:xfrm>
            <a:off x="5105520" y="2286000"/>
            <a:ext cx="330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inear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ints on the sa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s are the lights all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5" descr="59880929_0ffe721ad0_t.jpg"/>
          <p:cNvPicPr/>
          <p:nvPr/>
        </p:nvPicPr>
        <p:blipFill>
          <a:blip r:embed="rId1"/>
          <a:stretch/>
        </p:blipFill>
        <p:spPr>
          <a:xfrm>
            <a:off x="4952880" y="2514600"/>
            <a:ext cx="3797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presented by a dot, shows location has no size, has no endpoint, names using big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04344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1143000" y="41911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could be done to enhance this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gruent Figur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l same shape, sam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ongruent"/>
          <p:cNvPicPr/>
          <p:nvPr/>
        </p:nvPicPr>
        <p:blipFill>
          <a:blip r:embed="rId1"/>
          <a:stretch/>
        </p:blipFill>
        <p:spPr>
          <a:xfrm>
            <a:off x="2895480" y="3124080"/>
            <a:ext cx="56102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rotractor"/>
          <p:cNvPicPr/>
          <p:nvPr/>
        </p:nvPicPr>
        <p:blipFill>
          <a:blip r:embed="rId1"/>
          <a:stretch/>
        </p:blipFill>
        <p:spPr>
          <a:xfrm>
            <a:off x="3276720" y="3124080"/>
            <a:ext cx="5486400" cy="310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 protractor is a device for measuring the angle between two intersecting lin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0:49:07Z</dcterms:created>
  <dc:creator>administrator</dc:creator>
  <dc:description/>
  <dc:language>en-US</dc:language>
  <cp:lastModifiedBy>Owner</cp:lastModifiedBy>
  <dcterms:modified xsi:type="dcterms:W3CDTF">2011-08-22T05:07:50Z</dcterms:modified>
  <cp:revision>25</cp:revision>
  <dc:subject/>
  <dc:title>Geometry Vocabulary Project</dc:title>
</cp:coreProperties>
</file>